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7CF-37B3-40D7-9578-69FC5BC3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458-B589-4BB7-8FB2-6ACB2D69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491-E455-4E8A-91E3-8B271952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5C3-954B-44C2-968A-F20E99F6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17E-F1EF-4814-99E1-1616586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F7B-4464-466F-A21B-FC3CF6E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BB7-5ED2-497A-835D-C6E1253B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78C-57B8-4553-BC8C-CF2B2291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837-08F4-4C89-9BF0-25DC9E5C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98E-2136-46A8-B276-7B51FC3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191-ECEE-44B0-BC84-F278F5D5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90D-35D6-4F77-B052-0E54F33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7D8-91CB-452D-BE53-1CC2EC35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5320" y="45720"/>
            <a:ext cx="10806120" cy="512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ff"/>
                </a:solidFill>
                <a:latin typeface="Bookman Old Style"/>
              </a:rPr>
              <a:t>85</a:t>
            </a:r>
            <a:r>
              <a:rPr b="1" lang="en-US" sz="6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66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1" lang="bg-BG" sz="6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ога Господ, Съдият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егли нашите дела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лато ли ще ни намери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съвсем без цена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19320" y="190080"/>
            <a:ext cx="1200528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Наший Бог ще ли ни каже: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"Верний рабе и блажен"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О, да станем да работим,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докато е още ден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597960" y="117720"/>
            <a:ext cx="1090224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Как отваряме сърца си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за гласа на Дух Свети?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Или бавим се, додето</a:t>
            </a:r>
            <a:br>
              <a:rPr sz="6600"/>
            </a:br>
            <a:r>
              <a:rPr b="1" lang="bg-BG" sz="6600" spc="-1" strike="noStrike">
                <a:solidFill>
                  <a:srgbClr val="ffff00"/>
                </a:solidFill>
                <a:latin typeface="Monotype Corsiva"/>
              </a:rPr>
              <a:t>Той от нас в век отлет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648080" y="403920"/>
            <a:ext cx="1236060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:Претеглен в Божиите везни 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bg-BG" sz="6000" spc="-1" strike="noStrike">
                <a:solidFill>
                  <a:srgbClr val="000000"/>
                </a:solidFill>
                <a:latin typeface="Monotype Corsiva"/>
              </a:rPr>
              <a:t>Твърде лек намерен!: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7:01:59Z</dcterms:created>
  <dc:creator>TrifonTrifonow</dc:creator>
  <dc:description/>
  <dc:language>en-US</dc:language>
  <cp:lastModifiedBy>TrifonTrifonow</cp:lastModifiedBy>
  <dcterms:modified xsi:type="dcterms:W3CDTF">2005-11-22T08:46:47Z</dcterms:modified>
  <cp:revision>14</cp:revision>
  <dc:subject/>
  <dc:title>Slide 1</dc:title>
</cp:coreProperties>
</file>